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2CA1-4720-4B80-B582-5E9B8948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5046-351E-4D5C-B6CC-C3F4F151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72E-A93C-40D2-BA91-0019735C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934-D877-43D6-A80A-77B8D530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0E7-A20E-4041-B8BA-7497AD9F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CAF-67F5-44AD-8607-9A937CA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1D9-8371-488B-A6EE-530174FD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4A6-5717-49D8-923B-71F93E10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633-7F05-4612-B034-63CB2492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9A6-5177-4991-89B0-626D271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13D-748B-4D39-8F32-74499025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DEF-FD51-4C23-B6FC-CB2E7A9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E12-CA3C-4251-A47D-33841AB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04E-15EE-42C6-B57D-CD957EB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07A1-5716-4336-8583-B34310E87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-2556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yasia W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324480" y="0"/>
            <a:ext cx="18288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yasia W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yasia Wright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yasia Wri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yasia Wr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Yo tengo un divertida dia. Como es tu nueva escue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! Como estas?  Tengo un mal dia. </a:t>
            </a:r>
            <a:r>
              <a:rPr b="0" lang="en-US" sz="7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52280" y="3657600"/>
            <a:ext cx="1828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 llama es Nya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ght. Yo vive en Nuev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rk.Yo tengo quince anos. Yo soy gracios y muy fuerte. Si, Yo tengo uno hermano y una herman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3:46Z</dcterms:created>
  <dc:creator>FriscoISD</dc:creator>
  <dc:description/>
  <dc:language>en-US</dc:language>
  <cp:lastModifiedBy>NYCDOE</cp:lastModifiedBy>
  <dcterms:modified xsi:type="dcterms:W3CDTF">2012-12-05T14:04:57Z</dcterms:modified>
  <cp:revision>101</cp:revision>
  <dc:subject/>
  <dc:title>Profile</dc:title>
</cp:coreProperties>
</file>